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ct" ContentType="image/x-pict"/>
  <Override PartName="/ppt/media/image8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365-BB9B-4AEA-A419-B468A62C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036-C055-4111-B893-6EB8950B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A56-E838-4CE2-8159-DE339BFC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EE4-AC5E-4735-864E-D773D10D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6F7-1AE2-44C9-82B3-5B92B234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D5D-493C-4C42-A8FA-88CBAF78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06B-A1BA-40C4-B281-3EE32A2C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403-4303-49CD-8442-D0BB37EB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C9F-E491-4B17-91F3-69B30264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8F6-3D1F-41A0-A221-CA3E4B47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F2F-FD6C-49F0-9530-B0B1044E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35F-C925-4E88-825B-4D9D0C5F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A24F-D05A-4319-ABBE-1B58BAF9E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7 - Maintaining an Intern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 &amp; 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biologyfiles.fieldofscience.com/2011_01_01_archive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2084400"/>
            <a:ext cx="77724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gulation of body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pecies has an optimal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toth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 is regulated by exter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oth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intain constant body temp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less of externa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totherms &amp; Endotherm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faculty.uca.edu/johnc/animalstructfu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2160" y="1981080"/>
            <a:ext cx="427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regul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schoolworkhelper.net/2010/07/thermoregulation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umans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ala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art of the brain)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ordinating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rmoreg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taken from:  http://zaborina.i.ph/photo/108/1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3389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11200" y="609480"/>
            <a:ext cx="632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mmalian Diving Ref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mmal is submerged in cold water, the hypothalamus sign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art rate to 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to be diverted to the brain and other vital organs to conserve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preventing hypother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mmalian Diving Reflex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celticseakayaking.com/articles/mammal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2548080"/>
            <a:ext cx="77724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ody systems are constantly adjusting to changes in the external environment to maintain a constant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sis is an active process, sometime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Human Body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liesyoungwomenbelieve.com/index.php?id=3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  37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ugar level:  0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H:  7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38240" y="1981080"/>
            <a:ext cx="310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ostatic Control Syste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revisescience.co.uk/2010/schools/ilford/abhomeostasis.as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coordinating centre to counteract any detected changes in the sam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a small change from becoming too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freewebs.com/sandra02n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92200" y="1981080"/>
            <a:ext cx="435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academic.kellogg.edu/herbrandsonc/bio201_mckinley/endocrine%20system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143080"/>
            <a:ext cx="77724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System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ingrimayne.com/econ/AllocatingRationing/PriceAndFeedback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coordinating centre to amplify any detected changes in the sam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less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a small change to become 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62520" y="4648320"/>
            <a:ext cx="1320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pespmc1.vub.ac.be/feedback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963880"/>
            <a:ext cx="77724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40:22Z</dcterms:created>
  <dc:creator>rubina khan</dc:creator>
  <dc:description/>
  <dc:language>en-US</dc:language>
  <cp:lastModifiedBy>rubina khan</cp:lastModifiedBy>
  <dcterms:modified xsi:type="dcterms:W3CDTF">2011-12-06T16:42:19Z</dcterms:modified>
  <cp:revision>69</cp:revision>
  <dc:subject/>
  <dc:title>Chapter 7 - Maintaining an Internal Balance</dc:title>
</cp:coreProperties>
</file>